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61163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5C3-E409-4A68-B373-DCC870E4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63F-159D-42B9-AE13-BFD53181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DAA-48B5-421F-9A81-90B458D8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CBA-81D8-45A5-A706-A4A14616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90C-DF8F-49D1-B980-FCB68820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709-8CE7-4DFF-B4BB-901322FA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1DA-3B71-47A3-8A48-62433B4E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5C2B-1CAE-448C-930F-D7E36E06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5F3-447C-4709-8238-34091A12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A22-5D1C-4F2C-96D4-83B6EC6A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FC7-976C-4215-9D7C-5725CB9B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95ED-5022-4F2F-847E-3B562D1A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9E63-1B0A-4D27-87C2-B20A0ADE2F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Times New Roman"/>
              </a:rPr>
              <a:t>Normatívne dáta motorických a senzitívnych vodivostných štúdií populácie  Slovenska (SMDNE 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Times New Roman"/>
              </a:rPr>
              <a:t>Kritériá výberu osôb a navrhované metodiky vyšetrení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Kučera P., Záhon P. , Traubner P: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imes New Roman"/>
              </a:rPr>
              <a:t>I. neurologická klinika FN a LF UK Bratisl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 koho ?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Vylučovacie kritériá výberu osôb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Ochorenia s lokálnym postihnutím nervov, koreňov a miec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Celkové ochorenia </a:t>
            </a:r>
            <a:r>
              <a:rPr b="0" i="1" lang="sk-SK" sz="2800" spc="-1" strike="noStrike">
                <a:solidFill>
                  <a:srgbClr val="ffffff"/>
                </a:solidFill>
                <a:latin typeface="Times New Roman"/>
              </a:rPr>
              <a:t>( systémové, metabolické, infekčné a hereditárne )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prevádzan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postihnutím PNS a miec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Nádorové ochor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Dlhodobé užívanie látok a liekov vyvolávajúcich postihnutie PNS a miec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ko ?</a:t>
            </a: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šeobecné pravidlá pre vyšetrujúceh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imes New Roman"/>
              </a:rPr>
              <a:t>Vyšetrenie jednotlivej osoby tým istým elektromyografis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imes New Roman"/>
              </a:rPr>
              <a:t>Vyšetrenie požadovanej štruktúry vždy na pravej i ľavej str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imes New Roman"/>
              </a:rPr>
              <a:t>Kožná povrchová teplota nesmie poklesnúť pod 32  st. Celz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toré štruktúry, techniky a vyšetrenia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ffffff"/>
                </a:solidFill>
                <a:uFillTx/>
                <a:latin typeface="Times New Roman"/>
              </a:rPr>
              <a:t>Horné končati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66ff33"/>
                </a:solidFill>
                <a:latin typeface="Times New Roman"/>
              </a:rPr>
              <a:t>MC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- n. median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- n. ulna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- n. radia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66ff33"/>
                </a:solidFill>
                <a:latin typeface="Times New Roman"/>
              </a:rPr>
              <a:t>SCS ( antidromne )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- n.median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- n.ulna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66ff33"/>
                </a:solidFill>
                <a:latin typeface="Times New Roman"/>
              </a:rPr>
              <a:t>F-vlna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-n.median. a ul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lné končati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66ff33"/>
                </a:solidFill>
                <a:latin typeface="Times New Roman"/>
              </a:rPr>
              <a:t>MCS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- n. tibia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- n. fibula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66ff33"/>
                </a:solidFill>
                <a:latin typeface="Times New Roman"/>
              </a:rPr>
              <a:t>SCS (antidromne )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- n. sura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66ff33"/>
                </a:solidFill>
                <a:latin typeface="Times New Roman"/>
              </a:rPr>
              <a:t>H-reflex ( m. soleu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66ff33"/>
                </a:solidFill>
                <a:latin typeface="Times New Roman"/>
              </a:rPr>
              <a:t>F-vlna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- n. tibialis a n.fibula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otorick</a:t>
            </a:r>
            <a:r>
              <a:rPr b="1" lang="sk-SK" sz="4000" spc="-1" strike="noStrike">
                <a:solidFill>
                  <a:srgbClr val="ffff00"/>
                </a:solidFill>
                <a:latin typeface="Times New Roman"/>
              </a:rPr>
              <a:t>á štúdia – N.medianu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Snímacia elektróda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: v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trede línie smerujúcej od prvého metakarpofalangeálneho kĺbu a až po úpon šlachy m.flexor carpi radia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ferenčná elektróda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: v oblasti distálneho interfalangeálneho kĺb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Vzdialenosť od stimul. katódy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 :65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M-medianus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otorick</a:t>
            </a:r>
            <a:r>
              <a:rPr b="1" lang="sk-SK" sz="4400" spc="-1" strike="noStrike">
                <a:solidFill>
                  <a:srgbClr val="ffff00"/>
                </a:solidFill>
                <a:latin typeface="Times New Roman"/>
              </a:rPr>
              <a:t>á štúdia – N.ulnar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ffffff"/>
                </a:solidFill>
                <a:uFillTx/>
                <a:latin typeface="Times New Roman"/>
              </a:rPr>
              <a:t>Snímacia elektród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: v strede línie smerujúcej od piateho metakarpofalangeálneho kĺbu a až po os piriform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ferenčná elektród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: oblasť stredného falangu piateho pr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ffffff"/>
                </a:solidFill>
                <a:uFillTx/>
                <a:latin typeface="Times New Roman"/>
              </a:rPr>
              <a:t>Vzdialenosť od stimul.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k-SK" sz="2800" spc="-1" strike="noStrike" u="sng">
                <a:solidFill>
                  <a:srgbClr val="ffffff"/>
                </a:solidFill>
                <a:uFillTx/>
                <a:latin typeface="Times New Roman"/>
              </a:rPr>
              <a:t>katódy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: 700 m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M-ulnaris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otorick</a:t>
            </a:r>
            <a:r>
              <a:rPr b="1" lang="sk-SK" sz="4400" spc="-1" strike="noStrike">
                <a:solidFill>
                  <a:srgbClr val="ffff00"/>
                </a:solidFill>
                <a:latin typeface="Times New Roman"/>
              </a:rPr>
              <a:t>á štúdia – N.radial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ffffff"/>
                </a:solidFill>
                <a:uFillTx/>
                <a:latin typeface="Times New Roman"/>
              </a:rPr>
              <a:t>Snímacia elektród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 proximálna: v strednej oblasti m.extensor indicis propr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ferenčná elektród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: oblasť piateho metakar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ffffff"/>
                </a:solidFill>
                <a:uFillTx/>
                <a:latin typeface="Times New Roman"/>
              </a:rPr>
              <a:t>Vzdialenosť od stimul. katódy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 : 800 m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M-radialis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otorick</a:t>
            </a:r>
            <a:r>
              <a:rPr b="1" lang="sk-SK" sz="4000" spc="-1" strike="noStrike">
                <a:solidFill>
                  <a:srgbClr val="ffff00"/>
                </a:solidFill>
                <a:latin typeface="Times New Roman"/>
              </a:rPr>
              <a:t>á štúdia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Times New Roman"/>
              </a:rPr>
              <a:t>N.peroneus profundu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nímacia elektróda: v strednej oblasti m.extensor digitorum brev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Referenčná elektróda: oblasť piateho metatarsofalangeálneho spoje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Vzdialenosť od stimul. katódy :75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M-fibularis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otorick</a:t>
            </a:r>
            <a:r>
              <a:rPr b="1" lang="sk-SK" sz="4000" spc="-1" strike="noStrike">
                <a:solidFill>
                  <a:srgbClr val="ffff00"/>
                </a:solidFill>
                <a:latin typeface="Times New Roman"/>
              </a:rPr>
              <a:t>á štúdia – N.tibialis N.plantaris mediali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Snímacia elektróda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: v strednej oblasti m.abductor hallucis (asi 10mm pod zadnou hranou os navicul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ferenčná elektróda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: oblasť proximálneho falangu prvého pr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Vzdialenosť od stimul. katódy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 :1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M-tibialis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k-SK" sz="4000" spc="-1" strike="noStrike">
                <a:solidFill>
                  <a:srgbClr val="ffff00"/>
                </a:solidFill>
                <a:latin typeface="Times New Roman"/>
              </a:rPr>
              <a:t>Senzitívna  štúdia – N.radialis - </a:t>
            </a:r>
            <a:r>
              <a:rPr b="1" lang="sk-SK" sz="3200" spc="-1" strike="noStrike">
                <a:solidFill>
                  <a:srgbClr val="ffff00"/>
                </a:solidFill>
                <a:latin typeface="Times New Roman"/>
              </a:rPr>
              <a:t>antidrómna technik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Snímacia elektróda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: v strednej oblasti prvého metakarpu nad šlachami m.extensor pollic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ferenčná elektróda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:oblasť stredného falagu palca z dorzálnej stra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Vzdialenosť od stimul. katódy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 : 1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S-radialis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k-SK" sz="4000" spc="-1" strike="noStrike">
                <a:solidFill>
                  <a:srgbClr val="ffff00"/>
                </a:solidFill>
                <a:latin typeface="Times New Roman"/>
              </a:rPr>
              <a:t>Senzitívna štúdia – N.medianus </a:t>
            </a:r>
            <a:r>
              <a:rPr b="1" lang="sk-SK" sz="3200" spc="-1" strike="noStrike">
                <a:solidFill>
                  <a:srgbClr val="ffff00"/>
                </a:solidFill>
                <a:latin typeface="Times New Roman"/>
              </a:rPr>
              <a:t>antidrómna technik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Elektródy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: prstencov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Snímacia elektróda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 : v oblasti bázy II. pr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fernečná elektróda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 : v oblasti distálneho interfalangeálneho zhybu II. pr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Vzdialenosť od stimul. katódy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 : 13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S-medianus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00"/>
                </a:solidFill>
                <a:latin typeface="Times New Roman"/>
              </a:rPr>
              <a:t>SMDNE</a:t>
            </a:r>
            <a:br>
              <a:rPr sz="4400"/>
            </a:br>
            <a:r>
              <a:rPr b="1" i="1" lang="sk-SK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sk-SK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sk-SK" sz="2800" spc="-1" strike="noStrike">
                <a:solidFill>
                  <a:srgbClr val="ffff00"/>
                </a:solidFill>
                <a:latin typeface="Times New Roman"/>
              </a:rPr>
              <a:t>lovenská </a:t>
            </a:r>
            <a:r>
              <a:rPr b="1" i="1" lang="sk-SK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sk-SK" sz="2800" spc="-1" strike="noStrike">
                <a:solidFill>
                  <a:srgbClr val="ffff00"/>
                </a:solidFill>
                <a:latin typeface="Times New Roman"/>
              </a:rPr>
              <a:t>ulticentrická </a:t>
            </a:r>
            <a:r>
              <a:rPr b="1" lang="sk-SK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sk-SK" sz="2800" spc="-1" strike="noStrike">
                <a:solidFill>
                  <a:srgbClr val="ffff00"/>
                </a:solidFill>
                <a:latin typeface="Times New Roman"/>
              </a:rPr>
              <a:t>atabáza </a:t>
            </a:r>
            <a:r>
              <a:rPr b="1" lang="sk-SK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k-SK" sz="2800" spc="-1" strike="noStrike">
                <a:solidFill>
                  <a:srgbClr val="ffff00"/>
                </a:solidFill>
                <a:latin typeface="Times New Roman"/>
              </a:rPr>
              <a:t>ormatívnych hodnôt </a:t>
            </a:r>
            <a:r>
              <a:rPr b="1" lang="sk-SK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sk-SK" sz="2800" spc="-1" strike="noStrike">
                <a:solidFill>
                  <a:srgbClr val="ffff00"/>
                </a:solidFill>
                <a:latin typeface="Times New Roman"/>
              </a:rPr>
              <a:t>lektromyografických vyšetrení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Koordinátor projektu I. Neurologická klinika FN a LFUK v spolupráci s Katedrou informatiky a výpočtovej techniky FEI STU Bratisl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V rámci medzinárodnej spolupráce s  European Research Network for Intelligent Support of Electromyographic Studies ( EMG -Net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Projekt EMG-Net v rámci programu SHERPA – INCO COPERNICUS N</a:t>
            </a:r>
            <a:r>
              <a:rPr b="1" lang="sk-SK" sz="1800" spc="-1" strike="noStrike" baseline="40000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977069 (INRIA Rhone Alp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k-SK" sz="4000" spc="-1" strike="noStrike">
                <a:solidFill>
                  <a:srgbClr val="ffff00"/>
                </a:solidFill>
                <a:latin typeface="Times New Roman"/>
              </a:rPr>
              <a:t>Senzitívna štúdia – N.ulnaris </a:t>
            </a:r>
            <a:r>
              <a:rPr b="1" lang="sk-SK" sz="3200" spc="-1" strike="noStrike">
                <a:solidFill>
                  <a:srgbClr val="ffff00"/>
                </a:solidFill>
                <a:latin typeface="Times New Roman"/>
              </a:rPr>
              <a:t>antidrómna technik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Elektródy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: prstencov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Snímacia elektróda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 : v oblasti bázy V. pr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ferenčná elektróda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 : v oblasti distálneho interfalangeálneho zhybu V. pr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Vzdialenosť od stimul. katódy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 : 13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S-ulnaris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k-SK" sz="4000" spc="-1" strike="noStrike">
                <a:solidFill>
                  <a:srgbClr val="ffff00"/>
                </a:solidFill>
                <a:latin typeface="Times New Roman"/>
              </a:rPr>
              <a:t>Senzitívna štúdia – N.suralis </a:t>
            </a:r>
            <a:r>
              <a:rPr b="1" lang="sk-SK" sz="3200" spc="-1" strike="noStrike">
                <a:solidFill>
                  <a:srgbClr val="ffff00"/>
                </a:solidFill>
                <a:latin typeface="Times New Roman"/>
              </a:rPr>
              <a:t>antidrómna technik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Elektródy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: povrchové kontaktn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Snímacia elektróda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: za laterálnym maleol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ferenčná elektróda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: cca 3 cm distálnejš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Times New Roman"/>
              </a:rPr>
              <a:t>Vzdialenosť od stimul. katódy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 : 14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S-suralis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00"/>
                </a:solidFill>
                <a:latin typeface="Times New Roman"/>
              </a:rPr>
              <a:t>H-reflex </a:t>
            </a:r>
            <a:r>
              <a:rPr b="1" i="1" lang="sk-SK" sz="4400" spc="-1" strike="noStrike">
                <a:solidFill>
                  <a:srgbClr val="ffff00"/>
                </a:solidFill>
                <a:latin typeface="Times New Roman"/>
              </a:rPr>
              <a:t>( m.soleus 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ff"/>
                </a:solidFill>
                <a:uFillTx/>
                <a:latin typeface="Times New Roman"/>
              </a:rPr>
              <a:t>Snímacia elektróda</a:t>
            </a:r>
            <a:r>
              <a:rPr b="1" lang="sk-SK" sz="2000" spc="-1" strike="noStrike">
                <a:solidFill>
                  <a:srgbClr val="ffffff"/>
                </a:solidFill>
                <a:latin typeface="Times New Roman"/>
              </a:rPr>
              <a:t>:nad m. soleus - stred vzdialenosti medzi tibiálnym kondylom a mediálnym maleol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ff"/>
                </a:solidFill>
                <a:uFillTx/>
                <a:latin typeface="Times New Roman"/>
              </a:rPr>
              <a:t>Referenčná elektróda</a:t>
            </a:r>
            <a:r>
              <a:rPr b="1" lang="sk-SK" sz="2000" spc="-1" strike="noStrike">
                <a:solidFill>
                  <a:srgbClr val="ffffff"/>
                </a:solidFill>
                <a:latin typeface="Times New Roman"/>
              </a:rPr>
              <a:t>: nad Achillovou šľach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Times New Roman"/>
              </a:rPr>
              <a:t>stimulácia n.tibialis vo fossa poplitea (</a:t>
            </a:r>
            <a:r>
              <a:rPr b="1" i="1" lang="sk-SK" sz="2000" spc="-1" strike="noStrike">
                <a:solidFill>
                  <a:srgbClr val="ffffff"/>
                </a:solidFill>
                <a:latin typeface="Times New Roman"/>
              </a:rPr>
              <a:t>stimulačná katóda proximálne !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ff"/>
                </a:solidFill>
                <a:uFillTx/>
                <a:latin typeface="Times New Roman"/>
              </a:rPr>
              <a:t>Vzdialenosť od stimul. katódy</a:t>
            </a:r>
            <a:r>
              <a:rPr b="1" lang="sk-SK" sz="2000" spc="-1" strike="noStrike">
                <a:solidFill>
                  <a:srgbClr val="ffffff"/>
                </a:solidFill>
                <a:latin typeface="Times New Roman"/>
              </a:rPr>
              <a:t> :1900 - 2500  m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H-reflex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 - vln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imes New Roman"/>
              </a:rPr>
              <a:t>n.medianus </a:t>
            </a:r>
            <a:r>
              <a:rPr b="1" i="1" lang="sk-SK" sz="2400" spc="-1" strike="noStrike">
                <a:solidFill>
                  <a:srgbClr val="ffffff"/>
                </a:solidFill>
                <a:latin typeface="Times New Roman"/>
              </a:rPr>
              <a:t>(m.opponens pollicis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imes New Roman"/>
              </a:rPr>
              <a:t>n.ulnaris    </a:t>
            </a:r>
            <a:r>
              <a:rPr b="1" i="1" lang="sk-SK" sz="2400" spc="-1" strike="noStrike">
                <a:solidFill>
                  <a:srgbClr val="ffffff"/>
                </a:solidFill>
                <a:latin typeface="Times New Roman"/>
              </a:rPr>
              <a:t>(m.abductor dig. minimi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imes New Roman"/>
              </a:rPr>
              <a:t>n.peroneus </a:t>
            </a:r>
            <a:r>
              <a:rPr b="1" i="1" lang="sk-SK" sz="2400" spc="-1" strike="noStrike">
                <a:solidFill>
                  <a:srgbClr val="ffffff"/>
                </a:solidFill>
                <a:latin typeface="Times New Roman"/>
              </a:rPr>
              <a:t>(mm.extensores dig.brev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imes New Roman"/>
              </a:rPr>
              <a:t>n.tibialis    </a:t>
            </a:r>
            <a:r>
              <a:rPr b="1" i="1" lang="sk-SK" sz="2400" spc="-1" strike="noStrike">
                <a:solidFill>
                  <a:srgbClr val="ffffff"/>
                </a:solidFill>
                <a:latin typeface="Times New Roman"/>
              </a:rPr>
              <a:t>(m.abductor hallucis lo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Times New Roman"/>
              </a:rPr>
              <a:t>Štandardné umiestnenie snímacích elektród (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motor.štúdie</a:t>
            </a:r>
            <a:r>
              <a:rPr b="1" lang="sk-SK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Times New Roman"/>
              </a:rPr>
              <a:t>štandardná vzdialenosť stimul.katódy od aktívnej elektró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Times New Roman"/>
              </a:rPr>
              <a:t>katóda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ximálne</a:t>
            </a:r>
            <a:r>
              <a:rPr b="1" lang="sk-SK" sz="2800" spc="-1" strike="noStrike">
                <a:solidFill>
                  <a:srgbClr val="ffffff"/>
                </a:solidFill>
                <a:latin typeface="Times New Roman"/>
              </a:rPr>
              <a:t> voči anó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Čo z toho ,čo za to  a čo od koho?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alizačný výstup a finančné zabezpečeni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stupné normatívne údaje v tlačenej alebo elektronickej podo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štandardizácia metodík vyšetrení a tým porovnateľnosť výsledkov laboratórií na Slovens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dnet (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úfam ..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? ) pre finančnú podporu  elektromyografických laboratórií MZ , inštitúciami a firma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oužívané normatívne hodnoty v praxi EMG laboratórií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Referenčné hodnoty EMG laborató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Referenčné hodnoty  z  literárnych   údaj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Referenčné hodnoty vybranej vzorky populácie definovaného regiónu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( oblasť, kraj, štá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ferenčné hodnoty EMG laborató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imes New Roman"/>
              </a:rPr>
              <a:t>Najpoužívanejší a najvšeobecnejšie akceptovaný š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imes New Roman"/>
              </a:rPr>
              <a:t>limitácia zaužívanými metodikami vyšetrení v danom laboratóri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imes New Roman"/>
              </a:rPr>
              <a:t>nevýhodou je neporovnateľnosť výsledkov s inými EMG laboratória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ferenčné hodnoty  z  literárnych   údajov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imes New Roman"/>
              </a:rPr>
              <a:t>Výhodou je ich všeobecná dostupnos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imes New Roman"/>
              </a:rPr>
              <a:t>ich validita je limitovaná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k-SK" sz="3200" spc="-1" strike="noStrike">
                <a:solidFill>
                  <a:srgbClr val="ffffff"/>
                </a:solidFill>
                <a:latin typeface="Times New Roman"/>
              </a:rPr>
              <a:t>- technickými parametrami a vekom prístrojov, na  ktorých boli získan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sk-SK" sz="3200" spc="-1" strike="noStrike">
                <a:solidFill>
                  <a:srgbClr val="ffffff"/>
                </a:solidFill>
                <a:latin typeface="Times New Roman"/>
              </a:rPr>
              <a:t>( staršie osciloskopické EMG prístroje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sk-SK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k-SK" sz="3200" spc="-1" strike="noStrike">
                <a:solidFill>
                  <a:srgbClr val="ffffff"/>
                </a:solidFill>
                <a:latin typeface="Times New Roman"/>
              </a:rPr>
              <a:t>napr. rasovými odlišnosťami zvoleného výberu osô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ferenčné hodnoty vzorky populácie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finovaného regiónu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Podmienkou ich použiteľnosti j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- štandardizácia metodík na základe konsenzu EMG laboratór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- použitie moderných prístrojov s porovnateľnými technickými parametrami a spôsobom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aznamenania meraní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k-SK" sz="2400" spc="-1" strike="noStrike">
                <a:solidFill>
                  <a:srgbClr val="ffffff"/>
                </a:solidFill>
                <a:latin typeface="Times New Roman"/>
              </a:rPr>
              <a:t>( analógovo-digitálny prevodník, PC, obdobné softvérové vybavenie prístrojov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výhodou je porovnateľnosť výsledkov z rôznych laboratórií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k-SK" sz="2400" spc="-1" strike="noStrike">
                <a:solidFill>
                  <a:srgbClr val="ffffff"/>
                </a:solidFill>
                <a:latin typeface="Times New Roman"/>
              </a:rPr>
              <a:t>( časový a ekonomický benefit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Čím a na čom?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echnické a personálne vybavenie partnerov projektu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imes New Roman"/>
              </a:rPr>
              <a:t>EMG prístroj novej generácie na báze PC so základným softvérom pre vodivostné štúd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imes New Roman"/>
              </a:rPr>
              <a:t>teplomer pre meranie kožnej tepl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imes New Roman"/>
              </a:rPr>
              <a:t>PC min. triedy 486 s operačným systémom Windows 95 a vyšším pre ukladanie hodnôt do pripravenej databázy </a:t>
            </a:r>
            <a:r>
              <a:rPr b="1" i="1" lang="sk-SK" sz="3200" spc="-1" strike="noStrike">
                <a:solidFill>
                  <a:srgbClr val="ffffff"/>
                </a:solidFill>
                <a:latin typeface="Times New Roman"/>
              </a:rPr>
              <a:t>(fakultatívna podmienka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371600" y="533520"/>
          <a:ext cx="6489720" cy="567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33520"/>
                    <a:ext cx="6489720" cy="56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 koho ?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arakteristiky požadovaného súboru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00-300 osôb s približne 50 % zastúpením oboch pohlav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ek  10 - 60 rokov  a viac, po vekových dekádach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(min. 20 osôb vo vekovej dekáde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SMD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6T21:39:50Z</dcterms:created>
  <dc:creator>MUDr. Pavol Kučera</dc:creator>
  <dc:description/>
  <dc:language>en-US</dc:language>
  <cp:lastModifiedBy>MUDr. Pavol Kučera</cp:lastModifiedBy>
  <cp:lastPrinted>2000-05-08T10:33:51Z</cp:lastPrinted>
  <dcterms:modified xsi:type="dcterms:W3CDTF">2000-05-08T10:34:19Z</dcterms:modified>
  <cp:revision>6</cp:revision>
  <dc:subject/>
  <dc:title>Normatívne dáta motorických a senzitívnych vodivostných štúdií populácie  Slovenska (SMDNE ) Kritériá výberu osôb a navrhované metodiky vyšetrení.</dc:title>
</cp:coreProperties>
</file>