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1F0-2ACE-42F4-BC48-414DAC8D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3F3-2C3C-41CC-89DC-48AB2724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835-4049-46FD-9173-CCA561A2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D2F-1021-410D-A954-5575364B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CA65-8F43-43BF-BB19-3973E224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7FAE-4332-477B-A4AC-EBED61E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8004-ABCF-44C0-AEDB-CE7BE6CE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6ED5-749D-47B5-AD7A-36E7FCCD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82F5-2163-4EB3-AF76-B7928C9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2789-B5AA-4DF7-AEAB-230984D7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6AE7-A4EB-40C6-BB57-4CFDF0D8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9DE-E34B-4672-B4E7-4D760D7E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8390-046C-4EA4-B223-5277935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DC19-5807-4E8A-BA1F-E42B09B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3D83-FAC2-4E7A-9E60-82CBC005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35B8-0054-4C7C-AF7A-01647937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D3D2-8418-4EFD-8EB6-6B9729D1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912-E2E2-49F2-A08B-5FCF4E63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05C-0645-45C4-9F31-2650F062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B4D-38FF-492F-9B1B-F6EF632A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A31-FFB8-4150-9033-F1FDF9F9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F50-B782-4569-8CF2-103AD64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8DA-8F1E-4F37-BD34-4B1D6562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81A-5000-4786-B9FC-D2DB1E3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ECF7-3608-422A-AA09-70BF948BAF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9A9E-7599-4276-921D-C6ADF661EC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Podpora mana</a:t>
            </a:r>
            <a:r>
              <a:rPr b="1" lang="sk-SK" sz="4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sk-SK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mentu študentských projekt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Verdana"/>
              </a:rPr>
              <a:t>Ponuka produktu, prezentá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Členovia tí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stislav Bertušek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rek F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l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Vojtech Imrec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rtin Niejadlik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eter Trnovs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štu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F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S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.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. 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017440"/>
            <a:ext cx="8116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tivá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án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nkcie systé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id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ľo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nie projekt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udzovanie projekt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ápov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ď, t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vé zostavy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bezpečnosť, 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ministratí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rubý náv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Podpora mana</a:t>
            </a:r>
            <a:r>
              <a:rPr b="1" lang="sk-SK" sz="4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sk-SK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mentu študentských projekt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6:35:54Z</dcterms:created>
  <dc:creator>administrator</dc:creator>
  <dc:description/>
  <dc:language>en-US</dc:language>
  <cp:lastModifiedBy>administrator</cp:lastModifiedBy>
  <dcterms:modified xsi:type="dcterms:W3CDTF">2004-10-03T18:35:12Z</dcterms:modified>
  <cp:revision>4</cp:revision>
  <dc:subject/>
  <dc:title>Virtual Private Network (VPN)</dc:title>
</cp:coreProperties>
</file>